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670-DF01-4163-BEAB-D702D196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35E-03E1-4732-9793-D72AD38E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57F-A081-4631-B75C-CF79726B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DDC-7BCA-4E22-B546-6DF1B781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937-DE67-4681-9696-8BE2D875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68B-1EA2-4528-A0BB-5CC5FCA4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3E3-95A8-4083-AE36-5C2F10DC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079-4EF3-4E29-B068-B6F3BEE5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F35-AD23-4D45-9C38-4FD944B6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41D-7C0E-4FF0-A76A-848300BC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9AE-86E4-44B8-BC01-309F2707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985-A42F-4F18-A211-863190D6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075C-297C-49D3-A23B-597624B3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EMATIC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1981080"/>
            <a:ext cx="8777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ASIC MATHEMATICAL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8120" y="304812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1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1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96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n this unit, the learners should be able to use correct and appropriate mathematic operation: addition, subtraction, division and multiplication. By this Mathematical Operation, they do not only use this operation merely on math, but they should be able to connect these operations in their everyday liv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8120" y="361800"/>
            <a:ext cx="533376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t Summary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2895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67080" y="380880"/>
            <a:ext cx="26672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FQ'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96200" y="5486400"/>
            <a:ext cx="264780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1981080"/>
            <a:ext cx="89154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Essential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different mathematical opera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Unit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will you apply the mathematical operations in your daily l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ontent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the four operations relat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anoth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2514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is project will help my students develop 21</a:t>
            </a:r>
            <a:r>
              <a:rPr b="1" lang="en-US" sz="3200" spc="-1" strike="noStrike" baseline="30000">
                <a:solidFill>
                  <a:srgbClr val="000099"/>
                </a:solidFill>
                <a:latin typeface="Comic Sans MS"/>
              </a:rPr>
              <a:t>st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century skill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ical Thinking and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cation and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itiative and Self-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ic Lif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96200" y="5486400"/>
            <a:ext cx="264780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429000" y="304920"/>
            <a:ext cx="4952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as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hema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e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 can use the information from these assessment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 on the basic mathematical operation that the student will disc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 activities in which they will answer thei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tudents can use the information from these assessment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all mathemat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 to their dail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920" y="15228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uging Student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eds Assessm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96200" y="5486400"/>
            <a:ext cx="2647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8748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stude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ire skills in performing basic operations in math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the mathematical operations in their dail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ue the importance of these mathematical operations in line with their daily lives, and be able to enhance their cri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ing  and problem solving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62520" y="22860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r Goal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This Course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96200" y="5334120"/>
            <a:ext cx="2647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Need ways to help students understand the Basic Mathematical Operations that are relevant in their l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Need help assessing students’ higher-order think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05320" y="304920"/>
            <a:ext cx="4190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quests f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edbac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96200" y="5334120"/>
            <a:ext cx="2647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31:26Z</dcterms:created>
  <dc:creator>nave1386</dc:creator>
  <dc:description/>
  <dc:language>en-US</dc:language>
  <cp:lastModifiedBy>nave1386</cp:lastModifiedBy>
  <dcterms:modified xsi:type="dcterms:W3CDTF">2010-08-31T20:09:40Z</dcterms:modified>
  <cp:revision>3</cp:revision>
  <dc:subject/>
  <dc:title>BASIC MATHEMATIC OPERATIONS</dc:title>
</cp:coreProperties>
</file>